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60B18-113D-4C80-BD21-D3FD88284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B457E-DE49-4741-BE8B-328593FA1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2D54E-E242-4655-9436-F04AAEACF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6E9CF-CEC4-4967-B363-AEEDCA7EF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0DDF1-186C-4789-B525-774105DC5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EC1E1-DAEE-413C-A690-24308A7FA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0D642-7253-4C2E-8927-791F04046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DF3F3-0F07-4049-AB7D-6074B266F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43FAC-53E6-493D-A941-60577CA4B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32063-11E8-4848-A7B3-7675F546C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9C338-ED7D-43B8-849D-5D55AA3E5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70EC2-9F0B-4DA7-97A0-20383AC68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5EB05-CDC3-4EDC-9759-92E7D8DF7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89378-BE39-4739-961F-91C62802B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4E5FE-E012-4F27-929D-56CE8339F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17BC1-0D3B-4B6D-89AA-E19616838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30525-472A-4978-B788-27223F527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418B8-6BFE-45AE-BAE9-555D01009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791CA-7D1C-4745-897A-98BD837D6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1ABAA-B41A-4EA1-8D58-EBA16E707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4B1CC-10F7-440C-A98B-A5DB04790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EC79E-8518-4575-A1C4-5795F8512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05976-88D4-4459-920E-8B8176DD1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98CB8-41EE-45EB-8E0F-F53B72A31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5C5BE-529B-48F9-9569-B5D3DAE6DB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ECC79-7C3B-4975-A4C2-3D1E89A4E4B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The Persian War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837720" y="3886200"/>
            <a:ext cx="7696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Read pages 52-53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Notes: Lesson 4 in the packe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Describe the beginning of the Persian War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me city-states came under the control of the Persia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iletus rebelled against Persia, the Athenians helped the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Persians were angry at the Athenians and wanted to punish the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Explain the battle at Marathon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Persians and Athenians fought at marathon (26 miles from Athen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thens was outnumbered, but they w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messenger was sent to run to Athens, after he told everyone the good news, he died. This is how we got the word “Marathon”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s was a very important battle, it gave Athens self-confide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The battle of Thermopylae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thens and Sparta unite against Pers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y fought on a narrow pass between the cliffs and the se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traitor showed the Persians a secret way around the pa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Greeks lost the batt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Xerxes (Persian King) burned Athens to the grou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The Battle of Salami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eks and Persians clashed at an island named Salam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eks new the water bet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Greeks rammed the Persian ships and sank the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Greeks W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0T21:15:05Z</dcterms:created>
  <dc:creator>Information Technology</dc:creator>
  <dc:description/>
  <dc:language>en-US</dc:language>
  <cp:lastModifiedBy>Beth Beenken</cp:lastModifiedBy>
  <dcterms:modified xsi:type="dcterms:W3CDTF">2010-09-21T02:38:13Z</dcterms:modified>
  <cp:revision>4</cp:revision>
  <dc:subject/>
  <dc:title>The Persian War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504536030</vt:r8>
  </property>
  <property fmtid="{D5CDD505-2E9C-101B-9397-08002B2CF9AE}" pid="3" name="_AuthorEmail">
    <vt:lpwstr>ebeenken@psdschools.org</vt:lpwstr>
  </property>
  <property fmtid="{D5CDD505-2E9C-101B-9397-08002B2CF9AE}" pid="4" name="_AuthorEmailDisplayName">
    <vt:lpwstr>Beenken, Elizabeth - KIN</vt:lpwstr>
  </property>
  <property fmtid="{D5CDD505-2E9C-101B-9397-08002B2CF9AE}" pid="5" name="_EmailSubject">
    <vt:lpwstr/>
  </property>
  <property fmtid="{D5CDD505-2E9C-101B-9397-08002B2CF9AE}" pid="6" name="_NewReviewCycle">
    <vt:lpwstr/>
  </property>
</Properties>
</file>